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BF6-12B3-46B5-B8D6-217EC6D1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946-94B2-4EB6-B052-A232CFF0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7BC-AE9D-4BAD-9DC7-8B11B96F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711-E30D-47E5-B37F-85FA4CAC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0842-C0F1-42F2-A1E3-D8B6A961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45B-D356-46B9-9904-9A6975B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5FA-C75B-4397-80AE-AB4EAB1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16B7-F501-4E7F-AEF9-78E2A0D3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E159-3F00-4360-8BB3-79AA657E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41F5-329A-4F72-87D9-3D6D4C3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55E4-D8C9-4BDF-9F14-CF22221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113-0F82-431F-B15C-12F3300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4CC-AE49-4524-BB91-A9D32C3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EC1-E5EA-4048-AA1E-BF936F2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663-F243-4E91-A319-587311F3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7601-693C-4549-887A-C147130F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E65F-327D-468B-BC11-BE8E1813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E3641-F6A4-4C10-9CAA-4E276856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4CFEC-B8B6-48F3-B37C-5CF149EB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F6342-3B63-489A-A11B-4B721873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5FC28-D855-4B2F-93AA-4BE3D176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392D1-004B-4AAD-B26C-FD483374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AFF-AE26-467C-9EF0-747EA88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C2A04-CB6C-4D23-9890-44E0E433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3A723-288B-4980-A462-51B70D7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5BCBC-0F5F-4214-AF27-5A54BC1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9DB0D-2B98-45A5-B418-052C5E61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E36DC-8F12-4ED5-AEC6-4A4380B4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A43AE-2C40-48AE-92DA-1B57D612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5AC04-38EE-4C2E-BAD5-DD6B8A75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5DB0-7195-40CC-B0F9-B73D39D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706A-655F-4A00-885E-8A8877DE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4390-B9FC-46B8-953C-CAF57780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7B1-D1DD-4A4B-B090-7B7FF7D0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BC77-3262-456F-86D3-08668B1C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E888-1504-4C25-95A7-FE9C315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EFF71-0A96-45F6-B5AA-6727645C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4681-4FEE-4B53-AE58-8C17808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128C-B671-4205-A1A4-D8BB567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D33C-1AD3-4D32-BC0A-90A7BAB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49D4-DADC-4BC0-9650-13EECC4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5A7F-202B-4DE4-AC02-BB2ED20A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3FA5-3595-439E-AE45-92659F08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A959E-AE1F-4405-A62D-F92EB074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756-A48C-48F2-A3B3-5E0D7650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4E637-B055-4018-ACAC-8E53ECBE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79509-B57A-4333-8B44-BED7A92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988B6-E7CC-473C-9B31-48730B4C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4FE15-51A9-4E6C-8472-9742F42D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816D1-2347-45F5-B861-3E8A217A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363CC-556A-49B9-95E5-FAA7F2C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30E81-11B2-47A9-847D-AE6B931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391D0-7D1F-4D20-9762-3C741A3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058FA-8F68-4071-AE89-60B1DAFC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8F9C9-8EA1-46A5-B6B2-01C18389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27E-34B2-4AE9-9503-484C531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FB6C9-3FBB-4A90-97B5-CAC3A315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EA042-BA0B-47C1-828F-43740FB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403FC-5A33-4D6E-B246-AB835404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73F1C-9D0C-4EA8-8F70-3729A96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8F34D-DEFB-4BB4-BA8C-8648D4CB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E3202-4392-4F19-9933-2E432BC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202C5-5315-4D78-801A-719A70BC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1369C-5257-491E-B0D9-D24DB6E0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7B48C-9D1C-422B-9E1F-C4AA9F0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F1922-1B12-41A9-9119-0A01672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8CF-51B7-4ED9-B982-5241DBC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0C3BA-F699-43FF-964E-C07CA3E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F5DAE-85E7-4A81-9993-BCDDABA4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734BD-C1DE-4A6B-9E6D-AA8DD21E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60EA8-094A-4499-93D4-CB3C1720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11B71-1EE8-446B-808A-F1238E8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0BAA5-16E7-4FEE-AAC8-9183C40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FE37C-0CEF-4C13-A6AB-AA1B1AEE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76DFE-25ED-48CA-B392-80FEA65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B8D58-125D-4F87-AAF3-304A23DE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F1723-AF53-44A7-A075-9097F97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0F9-466B-42FB-BB68-30DB747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F04DA-7EFC-4E54-957D-E767537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C51F8-3E03-4C37-B6DB-1224EB2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F25A6-8991-431F-ACE4-7552A5DD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71EAB-69FF-47CE-9FCF-9DB2595A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1E7AA-BE2A-4C9C-A2CE-99C54D78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045-FB09-4E9F-A471-2AF6E75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D734-1C53-49FA-ADFE-ACE06ACA8288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C52F-33CE-48B7-A1F2-97011C525C3D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01B0-D21D-44BF-802D-0C61790A7DB6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8373-1BE9-4DEF-94FA-FB5FBA8928F2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D79-9885-40BE-AE9D-393A185A3052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E468-A09E-4A9B-9304-FF1F164FC1D9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F96-9D53-4652-8BD3-2DB0BE8C68E2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Bauhaus 93"/>
              </a:rPr>
              <a:t>ROMAN VILLA!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Bauhaus 93"/>
              </a:rPr>
              <a:t>BY</a:t>
            </a:r>
            <a:br>
              <a:rPr sz="3000"/>
            </a:br>
            <a:r>
              <a:rPr b="1" lang="en-US" sz="3000" spc="-1" strike="noStrike">
                <a:solidFill>
                  <a:srgbClr val="c00000"/>
                </a:solidFill>
                <a:latin typeface="Bauhaus 93"/>
              </a:rPr>
              <a:t>NISHA ODEDRA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" descr="http://www.gardenvisit.com/assets/madge/fishbourne/original/fishbourne_original.jpg"/>
          <p:cNvPicPr/>
          <p:nvPr/>
        </p:nvPicPr>
        <p:blipFill>
          <a:blip r:embed="rId1"/>
          <a:stretch/>
        </p:blipFill>
        <p:spPr>
          <a:xfrm>
            <a:off x="1785960" y="3071880"/>
            <a:ext cx="5286240" cy="330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FTING UP THE INSIDE ROO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n I lifted the roof behind my entrance w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lifted the nearer one to you easily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ut then the far sided one was taking a great deal of wor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got it in the en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n I did the final roof on the far righ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5236" t="18751" r="25585" b="23126"/>
          <a:stretch/>
        </p:blipFill>
        <p:spPr>
          <a:xfrm>
            <a:off x="714240" y="1571760"/>
            <a:ext cx="51199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FINAL SHO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Y FINAL SHOT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rcRect l="12892" t="28129" r="5079" b="30628"/>
          <a:stretch/>
        </p:blipFill>
        <p:spPr>
          <a:xfrm>
            <a:off x="500040" y="1643040"/>
            <a:ext cx="7858080" cy="24703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Schoolbook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Schoolbook"/>
              </a:rPr>
              <a:t>THANX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Schoolbook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MAN VILLA STAG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14280" y="2071800"/>
            <a:ext cx="5429520" cy="25225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1143000" y="478620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I did the base of the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 did the roof of the roman 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that, I did the little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 roof on the littl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MAN VILLA STAG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 did the square and then I did the wall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I did a circle in the middle and pulled it down. The painted it with the water colo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 did the grasses in the TT shape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rcRect l="16405" t="17811" r="24998" b="3435"/>
          <a:stretch/>
        </p:blipFill>
        <p:spPr>
          <a:xfrm>
            <a:off x="500040" y="1714680"/>
            <a:ext cx="3932280" cy="330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MAN VILLA STAGE 4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fter the TT and then around the fountain, I drew the poll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then I did the little roof on top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 did the square and then the wall’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rcRect l="21094" t="27189" r="977" b="22190"/>
          <a:stretch/>
        </p:blipFill>
        <p:spPr>
          <a:xfrm>
            <a:off x="285840" y="1500120"/>
            <a:ext cx="621828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THE BEDROO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4490" t="9425" r="37246" b="21699"/>
          <a:stretch/>
        </p:blipFill>
        <p:spPr>
          <a:xfrm>
            <a:off x="3357720" y="1357200"/>
            <a:ext cx="4071960" cy="45817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285840" y="4857840"/>
            <a:ext cx="385740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fter finishing the garden, I made 4 big squares and  in them 4 tiny ones. Then lifted them 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6"/>
          <p:cNvSpPr/>
          <p:nvPr/>
        </p:nvSpPr>
        <p:spPr>
          <a:xfrm>
            <a:off x="5473800" y="3657600"/>
            <a:ext cx="39600" cy="1719360"/>
          </a:xfrm>
          <a:prstGeom prst="pie">
            <a:avLst/>
          </a:pr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7"/>
          <p:cNvSpPr/>
          <p:nvPr/>
        </p:nvSpPr>
        <p:spPr>
          <a:xfrm>
            <a:off x="4400640" y="4425840"/>
            <a:ext cx="2208240" cy="36720"/>
          </a:xfrm>
          <a:prstGeom prst="pie">
            <a:avLst/>
          </a:pr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THE ROO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only did 2 rooms and made the wall see through to stop the hassle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 each room there is a brown bed and a blue room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lso there is a dressing table and a little statue of some sort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9696" t="10341" r="0" b="6903"/>
          <a:stretch/>
        </p:blipFill>
        <p:spPr>
          <a:xfrm>
            <a:off x="928800" y="1928880"/>
            <a:ext cx="39909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ING THE EXTRA PLAY GARDE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fter the houses  I did those square like floor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did the walls  of the vill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also added the color to the rooms if u can see those blue squares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rcRect l="33986" t="6562" r="0" b="0"/>
          <a:stretch/>
        </p:blipFill>
        <p:spPr>
          <a:xfrm>
            <a:off x="642960" y="1500120"/>
            <a:ext cx="368784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SHADING ARE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fter the extra gardens I made the shading are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irst I made the polls to support the roof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copied each one and then placed them in a sort of straight lin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put the roofing 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is I had to do by free hand and I have at least five layers to be able to have enough support for the final and better looking laye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rcRect l="6021" t="11239" r="3676" b="24548"/>
          <a:stretch/>
        </p:blipFill>
        <p:spPr>
          <a:xfrm>
            <a:off x="500040" y="1357200"/>
            <a:ext cx="642924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DING COLOR AND PLA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added the color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 to the paint tool and I foun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ome green gras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fter that I left the shading are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 same co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hen I went into Googl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 Sketchup and found a ornamental plants and placed it there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rcRect l="22135" t="10593" r="0" b="0"/>
          <a:stretch/>
        </p:blipFill>
        <p:spPr>
          <a:xfrm>
            <a:off x="500040" y="3857760"/>
            <a:ext cx="394812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21:12:16Z</dcterms:created>
  <dc:creator>Diocesan School for Girls</dc:creator>
  <dc:description/>
  <dc:language>en-US</dc:language>
  <cp:lastModifiedBy>Diocesan School for Girls</cp:lastModifiedBy>
  <dcterms:modified xsi:type="dcterms:W3CDTF">2009-09-08T23:27:52Z</dcterms:modified>
  <cp:revision>27</cp:revision>
  <dc:subject/>
  <dc:title>Roman Villa</dc:title>
</cp:coreProperties>
</file>